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5B11-D6F6-4C2A-9C38-062E8FAF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24D1-A047-4D97-9A26-8C010F06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647-5A14-4F46-8020-7D0649B4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2A2-9B46-4C5D-82BA-3CC96912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A10-0A89-4397-A0B7-08C1F60D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2C1-46A0-466B-948A-4AA7EFD0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663B-3A8C-4BAB-BD2F-88475C99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360-D389-4A6C-AD70-AAAEDCDB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492-5CE6-4979-B662-2D1893FE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157-34CE-4CDB-875E-4CF9DBD4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AAC-9FC1-41EB-8520-04E930C9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5E2-0FBF-471D-8B63-20AA5B27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7BF4-0E8C-4B60-BA03-731BD66B7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mg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img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g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0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g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img0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mg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0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5T15:38:59Z</dcterms:created>
  <dc:creator>Val Thron</dc:creator>
  <dc:description/>
  <dc:language>en-US</dc:language>
  <cp:lastModifiedBy>Val Thron</cp:lastModifiedBy>
  <dcterms:modified xsi:type="dcterms:W3CDTF">2005-11-25T15:39:28Z</dcterms:modified>
  <cp:revision>1</cp:revision>
  <dc:subject/>
  <dc:title>PowerPoint Presentation</dc:title>
</cp:coreProperties>
</file>